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9193-2B51-42DB-8951-AD3F644E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3AA-05FB-4602-81E3-90FAA094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3A2-1586-413B-8C72-9268CB98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47A3-F1E1-41E6-9CBE-5D13B0CC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B6F4-A512-4381-A9E0-456C398D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E322-44F8-411E-8025-73726C9F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C627-2B48-4DB6-85BD-1BFCF8C3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5466-A726-41EA-86D0-2BDD52C5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807C-0170-4987-BF15-32069EFE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5350-7821-44B8-9D76-884D438F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7ACD-2B61-408D-9E5A-F3574FDF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473C-57ED-42AE-A559-BF22DBB8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DAD3-EEA8-4A75-AC13-133308A9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E055-D8E6-4C48-8864-F2ABFCFD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9D08-A5CD-4097-B028-6D9118FB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32EE-50BC-4E05-87F7-E8E8DCAC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A0C0-EDDA-4950-8267-7CAA1F0A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44CC-42FE-4BA1-A6FF-998614A5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2DC-D3EB-475B-A241-AA95F161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165-DC1B-4E15-946A-AA1C3C31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BDA-B273-4961-B6F9-134B0611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71D-345A-4273-9CE4-7BAC046A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51B-65D4-4922-9342-52BF94D2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08B3-BD29-4CDE-B4E8-230DD7F6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2788-F601-4864-A5AB-8AB9B93D3606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4AFB-7518-4564-8727-72B17A14F6EC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Wydawnictwa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66ff"/>
                </a:solidFill>
                <a:latin typeface="Arial"/>
              </a:rPr>
              <a:t>informacyj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Encyklope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Leksyko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Słownik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Informa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BS00554_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25909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NCYKLOPED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286000"/>
            <a:ext cx="6629400" cy="180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zieło obejmujące zbiór wiadomości ( w hasłach ułożonych alfabetycznie lub wg. zagadnień) ze wszystkich dziedzin wiedzy lub jednej dyscypli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łownik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33"/>
                </a:solidFill>
                <a:latin typeface="Times New Roman"/>
              </a:rPr>
              <a:t>Zbiór wyrazów dobranych i uporządkowanych wg.określonej zasady, zawierający ich definicje, przykłady użyć, , etymologię itp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 Black"/>
              </a:rPr>
              <a:t>Leksykon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ctr">
              <a:lnSpc>
                <a:spcPct val="100000"/>
              </a:lnSpc>
              <a:spcBef>
                <a:spcPts val="1199"/>
              </a:spcBef>
              <a:buClr>
                <a:srgbClr val="00ffff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łownik o charakterze encyklopedyczny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cc"/>
                </a:solidFill>
                <a:latin typeface="Arial"/>
              </a:rPr>
              <a:t>Informator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Publikacja zawierająca dokładne informacje , dane o czymś (np.. Informator teatralny, Informator o studiach, Rozkład jazdy pociągów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99ff"/>
          </a:solidFill>
          <a:ln w="9360">
            <a:solidFill>
              <a:srgbClr val="cc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Rodzaje encykloped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gólne (uniwersalne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IELKA 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( Wielka encyklopedia powszechna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ŚREDNIA 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(Encyklopedia</a:t>
            </a:r>
            <a:r>
              <a:rPr b="0" lang="en-US" sz="1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powszechna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MAŁA 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( Encyklopedia popularna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1640" y="22860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jalne( dziedzinowe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Encyklopedia muzy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Encyklopedia człowie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Encyklopedia techn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Times New Roman"/>
              </a:rPr>
              <a:t>Encyklopedia spor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Arial"/>
              </a:rPr>
              <a:t>Rodzaje słowników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ęzykowe :  dotyczące języka ojczystego: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łownie języka polskie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łownik poprawnej polszczyz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łownik ortograficzn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wu- lub wielojęzyczne służące do nauki języków obc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łowniki tematyczn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łownik pisarzy polski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zkolny słownik geograficz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3:26:27Z</dcterms:created>
  <dc:creator>ppp</dc:creator>
  <dc:description/>
  <dc:language>en-US</dc:language>
  <cp:lastModifiedBy>Biblioteka</cp:lastModifiedBy>
  <dcterms:modified xsi:type="dcterms:W3CDTF">2002-12-02T19:02:30Z</dcterms:modified>
  <cp:revision>8</cp:revision>
  <dc:subject/>
  <dc:title>Wydawnictwa informacyjne</dc:title>
</cp:coreProperties>
</file>